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D42-61F9-4AFB-A5B5-1F57D746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F0E-77DA-4B81-9F37-1362F84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EB2-1618-45BB-A007-25C00EB2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54F-275F-4CBD-A5E5-9C5A815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BE8-A955-4F53-9C28-09DB6914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6FE-289B-4078-BC2D-012CD500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A31-CC91-43E5-8B70-86351E1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42F-08BB-40E4-8E87-17CBEAEB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475-5EAE-4FE2-9597-E7F463A9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8B9-0CD7-4243-9DF8-0976419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0FD-B712-460A-8AB7-C3F79D7E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EDD-6EB3-4F95-B79F-1A11AEDD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0290-B8BE-4D69-A681-5D17A6870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5562720" cy="422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2753" t="3461" r="14220" b="92314"/>
          <a:stretch/>
        </p:blipFill>
        <p:spPr>
          <a:xfrm>
            <a:off x="4495680" y="5181480"/>
            <a:ext cx="4380120" cy="146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00400" y="4572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34520" y="2743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171440"/>
            <a:ext cx="3733920" cy="327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534520" y="4572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9040" y="57240"/>
            <a:ext cx="83059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36:26Z</dcterms:created>
  <dc:creator>CGRER</dc:creator>
  <dc:description/>
  <dc:language>en-US</dc:language>
  <cp:lastModifiedBy>CGRER</cp:lastModifiedBy>
  <dcterms:modified xsi:type="dcterms:W3CDTF">2009-01-12T20:13:19Z</dcterms:modified>
  <cp:revision>81</cp:revision>
  <dc:subject/>
  <dc:title>ES&amp;T paper figures</dc:title>
</cp:coreProperties>
</file>